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84B-0791-4605-B045-4076CF69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60D-BEA8-4937-8309-98DED31D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71D-2C8F-4EB7-86DD-08E26B48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9AF-A69B-4644-AD0C-261464EB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534-4ABB-4029-9E24-6606E938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AA4-4A5A-4799-AAFB-A5298D54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F49-3A63-47E1-947E-D12E7003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FDC-F51A-44DC-9B22-FE6BE6F3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46B-450F-4768-8422-859A4F84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ED3-939A-49EC-BA1C-BF3060A2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694-7CBE-42D6-B81C-C66212B4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62A-0B58-4716-BC5A-D271C576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10B3-FDA3-4B39-B378-C1FF626C2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acqua.htm" TargetMode="External"/><Relationship Id="rId3" Type="http://schemas.openxmlformats.org/officeDocument/2006/relationships/image" Target="../media/image2.png"/><Relationship Id="rId4" Type="http://schemas.openxmlformats.org/officeDocument/2006/relationships/hyperlink" Target="file:///acqua.htm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5e4675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1066680"/>
            <a:ext cx="10487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/>
                </a:solidFill>
                <a:latin typeface="Arial Black"/>
              </a:rPr>
              <a:t>Scuola Media Statale                                 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38280" y="2133720"/>
            <a:ext cx="360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/>
                </a:solidFill>
                <a:latin typeface="Arial Black"/>
              </a:rPr>
              <a:t>" Anna Frank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19520" y="5029200"/>
            <a:ext cx="27907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/>
                </a:solidFill>
                <a:latin typeface="Arial Black"/>
              </a:rPr>
              <a:t>Cannara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/>
              </a:solidFill>
              <a:latin typeface="Arial Black"/>
              <a:ea typeface="Arial Black"/>
            </a:endParaRPr>
          </a:p>
        </p:txBody>
      </p:sp>
      <p:pic>
        <p:nvPicPr>
          <p:cNvPr id="44" name="CANARA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352680" y="3429000"/>
            <a:ext cx="1819440" cy="1057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426708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05720" y="48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1:40:33Z</dcterms:created>
  <dc:creator>scuola media "Anna Frank"</dc:creator>
  <dc:description/>
  <dc:language>en-US</dc:language>
  <cp:lastModifiedBy>Cridea</cp:lastModifiedBy>
  <dcterms:modified xsi:type="dcterms:W3CDTF">1999-03-23T09:52:09Z</dcterms:modified>
  <cp:revision>13</cp:revision>
  <dc:subject/>
  <dc:title>Nessun titolo diapositiva</dc:title>
</cp:coreProperties>
</file>