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CD58-73F9-4066-AB4E-7552D6633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B6AE-856F-4C91-AD66-107BDF2AF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0C70-C5DF-46A2-9C75-C736DF4A3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4375-4D23-4C79-8402-A1851D281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4984-D679-47A8-9EC9-B17CB9F81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EF0B-9777-46E0-93E3-634241343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C2F0-3484-4927-88D9-3AAD8C627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EB3F-FC5A-4BDA-BE23-66155414E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9031-AD4F-40B9-A12B-488EFACFD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59CD-4542-4A39-85D6-A0D36536F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55BC-E17F-43E2-894C-C2FDDE821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E167-7D46-4FC8-AB34-CFEDCCFD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4E024-6E77-4FF4-8407-506C1DE1D0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file:///coperti1.ht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H01241J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32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286000" y="1905120"/>
            <a:ext cx="50292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Progetto Foreste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035760"/>
            <a:ext cx="9144000" cy="82548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00"/>
                </a:solidFill>
                <a:latin typeface="Times New Roman"/>
              </a:rPr>
              <a:t>Stesura Ipertestuale a cura del personale docente del 1° Circolo di Spoleto</a:t>
            </a:r>
            <a:r>
              <a:rPr b="1" lang="en-US" sz="1800" spc="-1" strike="noStrike">
                <a:solidFill>
                  <a:srgbClr val="9966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657600" y="525780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Copyright Riservato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1999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419720" y="3276720"/>
          <a:ext cx="303120" cy="303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19720" y="3276720"/>
                    <a:ext cx="303120" cy="30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7" name="AG00083_" descr=""/>
          <p:cNvPicPr/>
          <p:nvPr/>
        </p:nvPicPr>
        <p:blipFill>
          <a:blip r:embed="rId4"/>
          <a:stretch/>
        </p:blipFill>
        <p:spPr>
          <a:xfrm>
            <a:off x="609480" y="6477120"/>
            <a:ext cx="228600" cy="222120"/>
          </a:xfrm>
          <a:prstGeom prst="rect">
            <a:avLst/>
          </a:prstGeom>
          <a:ln w="0">
            <a:noFill/>
          </a:ln>
        </p:spPr>
      </p:pic>
      <p:sp>
        <p:nvSpPr>
          <p:cNvPr id="48" name="">
            <a:hlinkClick r:id="rId5"/>
          </p:cNvPr>
          <p:cNvSpPr/>
          <p:nvPr/>
        </p:nvSpPr>
        <p:spPr>
          <a:xfrm>
            <a:off x="228600" y="6477120"/>
            <a:ext cx="304920" cy="228600"/>
          </a:xfrm>
          <a:prstGeom prst="rect">
            <a:avLst/>
          </a:prstGeom>
          <a:solidFill>
            <a:srgbClr val="663300"/>
          </a:solidFill>
          <a:ln w="0">
            <a:noFill/>
          </a:ln>
          <a:effectLst>
            <a:outerShdw dist="17819" dir="2700000" blurRad="0" rotWithShape="0">
              <a:srgbClr val="3c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795760" y="3841920"/>
            <a:ext cx="3757320" cy="95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Ricerca sulla situazione forestale</a:t>
            </a:r>
            <a:endParaRPr b="0" lang="en-US" sz="2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in Umbria</a:t>
            </a:r>
            <a:endParaRPr b="0" lang="en-US" sz="2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2T20:21:04Z</dcterms:created>
  <dc:creator>a</dc:creator>
  <dc:description/>
  <dc:language>en-US</dc:language>
  <cp:lastModifiedBy>Cridea</cp:lastModifiedBy>
  <dcterms:modified xsi:type="dcterms:W3CDTF">1999-05-10T08:27:38Z</dcterms:modified>
  <cp:revision>11</cp:revision>
  <dc:subject/>
  <dc:title>Nessun titolo diapositiva</dc:title>
</cp:coreProperties>
</file>