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B10-18D7-4F84-8E35-0E98BE18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A9C-5E19-447A-ADF2-3A33ADC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A5F-9C8A-4CC2-A1C0-A1A76B47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C4E-4248-4ACF-AC93-9B374F5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3C1-C111-456F-9C90-113F0CA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C76-22E1-4804-B7CF-5A1B1A7B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1B2-742C-418E-BD9F-9FF3264F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35D-F294-457A-842A-48617C1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21C-375B-4ACE-BE50-BCE96560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225-E14D-47D8-8413-AA0A3AD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FDE-282F-4D72-8F44-B6499D2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643-1F6C-4D4A-9479-D16348F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351-0943-4614-819B-75F36A3B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hyperlink" Target="file:///../ScuolaM.ppt" TargetMode="External"/><Relationship Id="rId10" Type="http://schemas.openxmlformats.org/officeDocument/2006/relationships/hyperlink" Target="file:///../ScuolaM.ppt" TargetMode="External"/><Relationship Id="rId11" Type="http://schemas.openxmlformats.org/officeDocument/2006/relationships/hyperlink" Target="file:///esperie.ht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00800" y="3962520"/>
          <a:ext cx="25621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962520"/>
                    <a:ext cx="2562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57200" y="228600"/>
          <a:ext cx="4011480" cy="264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8600"/>
                    <a:ext cx="4011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880" y="2743200"/>
          <a:ext cx="3124440" cy="1940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743200"/>
                    <a:ext cx="31244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0" y="1371600"/>
          <a:ext cx="3200400" cy="1558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371600"/>
                    <a:ext cx="3200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410080" y="2057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371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GRAFICO TO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52280"/>
            <a:ext cx="2057400" cy="580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uola media statale: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nna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Fr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876920"/>
            <a:ext cx="3048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apete quanta acqua consumate in una mattinata, nei bagni della vostra scuola?Guardate questi grafici e lo scopriret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495680"/>
            <a:ext cx="3886200" cy="1905120"/>
          </a:xfrm>
          <a:prstGeom prst="wedgeEllipseCallout">
            <a:avLst>
              <a:gd name="adj1" fmla="val 58944"/>
              <a:gd name="adj2" fmla="val -23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/>
          </p:cNvPr>
          <p:cNvSpPr/>
          <p:nvPr/>
        </p:nvSpPr>
        <p:spPr>
          <a:xfrm>
            <a:off x="533520" y="609588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e007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295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09:39:38Z</dcterms:created>
  <dc:creator>scuola media statale</dc:creator>
  <dc:description/>
  <dc:language>en-US</dc:language>
  <cp:lastModifiedBy>cridea</cp:lastModifiedBy>
  <dcterms:modified xsi:type="dcterms:W3CDTF">1999-03-30T10:28:09Z</dcterms:modified>
  <cp:revision>23</cp:revision>
  <dc:subject/>
  <dc:title>Nessun titolo diapositiva</dc:title>
</cp:coreProperties>
</file>