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DA29-AC77-493E-A186-268AFAB4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FAF4-7648-4DA2-B14D-A9B8EA50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4D9B-354D-4C35-8D57-916F4EA8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701-8DC6-403D-A5CA-7BC16D1C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76E-7071-4C84-8FF6-A66BFADE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A800-B634-41E6-A628-16FEFE46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CFC-D671-4197-90F0-772AEE27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B66-0FF0-440A-8360-23FB58ED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4DC-6EB0-4114-BB8A-D1B134B5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5B4-4E83-4AF8-B0FD-EB20C33B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49C-475E-4531-B467-349BB036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4900-1171-4505-926C-5BDA9B26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8DB5-0B0D-4F0B-88B1-3591EF8E8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file:///tabelle.htm" TargetMode="External"/><Relationship Id="rId4" Type="http://schemas.openxmlformats.org/officeDocument/2006/relationships/hyperlink" Target="file:///distrib.ht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48320" y="914400"/>
            <a:ext cx="355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alisto MT"/>
              </a:rPr>
              <a:t>ACQUEDOTTI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alisto MT"/>
              <a:ea typeface="Calisto MT"/>
            </a:endParaRPr>
          </a:p>
        </p:txBody>
      </p:sp>
      <p:pic>
        <p:nvPicPr>
          <p:cNvPr id="42" name="Cartina%20ACQUET" descr=""/>
          <p:cNvPicPr/>
          <p:nvPr/>
        </p:nvPicPr>
        <p:blipFill>
          <a:blip r:embed="rId2"/>
          <a:stretch/>
        </p:blipFill>
        <p:spPr>
          <a:xfrm>
            <a:off x="0" y="380880"/>
            <a:ext cx="4498920" cy="5257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2286000"/>
            <a:ext cx="22096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imes New Roman"/>
              </a:rPr>
              <a:t>Ragazzi, siamo arrivati alla pagina degli  acquedotti, dove potremo scoprire  tutti i segreti  sul  percorso che compie l’acqua per arrivare nelle nostre case !!! In questa cartina vengono evidenziati i  Comuni serviti dal Consorzio Acquedotti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91120" y="2057400"/>
            <a:ext cx="2895480" cy="2209680"/>
          </a:xfrm>
          <a:prstGeom prst="wedgeEllipseCallout">
            <a:avLst>
              <a:gd name="adj1" fmla="val 52467"/>
              <a:gd name="adj2" fmla="val 37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r%20acqua%20bros" descr=""/>
          <p:cNvPicPr/>
          <p:nvPr/>
        </p:nvPicPr>
        <p:blipFill>
          <a:blip r:embed="rId3"/>
          <a:stretch/>
        </p:blipFill>
        <p:spPr>
          <a:xfrm>
            <a:off x="6934320" y="2971800"/>
            <a:ext cx="199548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972560" y="5715000"/>
            <a:ext cx="587160" cy="838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31520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imes New Roman"/>
              </a:rPr>
              <a:t>CONSORZIO ACQUEDOTTI PERUG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00200" y="13716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artina%20ACQUET1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333760" cy="2975040"/>
          </a:xfrm>
          <a:prstGeom prst="rect">
            <a:avLst/>
          </a:prstGeom>
          <a:ln w="50760">
            <a:solidFill>
              <a:srgbClr val="480090"/>
            </a:solidFill>
            <a:miter/>
          </a:ln>
        </p:spPr>
      </p:pic>
      <p:sp>
        <p:nvSpPr>
          <p:cNvPr id="50" name=""/>
          <p:cNvSpPr txBox="1"/>
          <p:nvPr/>
        </p:nvSpPr>
        <p:spPr>
          <a:xfrm>
            <a:off x="990720" y="457200"/>
            <a:ext cx="7315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600a0"/>
                    </a:gs>
                    <a:gs pos="100000">
                      <a:srgbClr val="00004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CONSORZIO ACQUEDOTTI DI PERUGI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600a0"/>
                  </a:gs>
                  <a:gs pos="100000">
                    <a:srgbClr val="00004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2286000"/>
            <a:ext cx="74520" cy="514440"/>
          </a:xfrm>
          <a:prstGeom prst="rect">
            <a:avLst/>
          </a:prstGeom>
          <a:solidFill>
            <a:srgbClr val="ff33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2438280"/>
            <a:ext cx="175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80090"/>
                </a:solidFill>
                <a:latin typeface="Times New Roman"/>
              </a:rPr>
              <a:t>ACQ. BAGNA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3048120"/>
            <a:ext cx="74520" cy="514080"/>
          </a:xfrm>
          <a:prstGeom prst="rect">
            <a:avLst/>
          </a:prstGeom>
          <a:solidFill>
            <a:srgbClr val="00b000"/>
          </a:solidFill>
          <a:ln w="572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3276720"/>
            <a:ext cx="13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80090"/>
                </a:solidFill>
                <a:latin typeface="Times New Roman"/>
              </a:rPr>
              <a:t>ACQ. CANNA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886200"/>
            <a:ext cx="75960" cy="514440"/>
          </a:xfrm>
          <a:prstGeom prst="rect">
            <a:avLst/>
          </a:prstGeom>
          <a:solidFill>
            <a:srgbClr val="007af4"/>
          </a:solidFill>
          <a:ln w="57240">
            <a:solidFill>
              <a:srgbClr val="007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4038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80090"/>
                </a:solidFill>
                <a:latin typeface="Times New Roman"/>
              </a:rPr>
              <a:t>ACQ. PETRIGNA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4572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2133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1523880"/>
            <a:ext cx="75960" cy="533520"/>
          </a:xfrm>
          <a:prstGeom prst="rect">
            <a:avLst/>
          </a:prstGeom>
          <a:solidFill>
            <a:srgbClr val="7600a0"/>
          </a:solidFill>
          <a:ln w="7632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167652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600a0"/>
                </a:solidFill>
                <a:latin typeface="Times New Roman"/>
              </a:rPr>
              <a:t>ACQ. IN  PROGET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4800600"/>
            <a:ext cx="228600" cy="228600"/>
          </a:xfrm>
          <a:prstGeom prst="ellipse">
            <a:avLst/>
          </a:prstGeom>
          <a:solidFill>
            <a:srgbClr val="ff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4800600"/>
            <a:ext cx="220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600a0"/>
                </a:solidFill>
                <a:latin typeface="Times New Roman"/>
              </a:rPr>
              <a:t>COMUNI DEL CONSORZ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1371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5257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"/>
          </p:cNvPr>
          <p:cNvSpPr/>
          <p:nvPr/>
        </p:nvSpPr>
        <p:spPr>
          <a:xfrm>
            <a:off x="7696080" y="5791320"/>
            <a:ext cx="533520" cy="838080"/>
          </a:xfrm>
          <a:custGeom>
            <a:avLst/>
            <a:gdLst>
              <a:gd name="textAreaLeft" fmla="*/ 71280 w 533520"/>
              <a:gd name="textAreaRight" fmla="*/ 462240 w 533520"/>
              <a:gd name="textAreaTop" fmla="*/ 149760 h 838080"/>
              <a:gd name="textAreaBottom" fmla="*/ 6044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28" stAng="-5400000" swAng="-5400000"/>
                <a:lnTo>
                  <a:pt x="0" y="11713"/>
                </a:lnTo>
                <a:arcTo wR="21600" hR="7728" stAng="10800000" swAng="-2720304"/>
                <a:lnTo>
                  <a:pt x="14400" y="21158"/>
                </a:lnTo>
                <a:lnTo>
                  <a:pt x="21600" y="17448"/>
                </a:lnTo>
                <a:lnTo>
                  <a:pt x="14400" y="12853"/>
                </a:lnTo>
                <a:lnTo>
                  <a:pt x="14400" y="15013"/>
                </a:lnTo>
                <a:arcTo wR="21600" hR="7728" stAng="8079696" swAng="2393082"/>
                <a:lnTo>
                  <a:pt x="730" y="9720"/>
                </a:lnTo>
                <a:arcTo wR="21600" hR="7728" stAng="-10472777" swAng="5072777"/>
                <a:close/>
              </a:path>
              <a:path fill="darkenLess" w="21600" h="21600">
                <a:moveTo>
                  <a:pt x="21600" y="0"/>
                </a:moveTo>
                <a:arcTo wR="21600" hR="7728" stAng="-5400000" swAng="-5400000"/>
                <a:lnTo>
                  <a:pt x="0" y="7728"/>
                </a:lnTo>
                <a:arcTo wR="21600" hR="7728" stAng="10800000" swAng="-327223"/>
                <a:lnTo>
                  <a:pt x="730" y="9720"/>
                </a:lnTo>
                <a:arcTo wR="21600" hR="7728" stAng="-10472777" swAng="5072777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"/>
          </p:cNvPr>
          <p:cNvSpPr/>
          <p:nvPr/>
        </p:nvSpPr>
        <p:spPr>
          <a:xfrm>
            <a:off x="5867280" y="5867280"/>
            <a:ext cx="609840" cy="762120"/>
          </a:xfrm>
          <a:custGeom>
            <a:avLst/>
            <a:gdLst>
              <a:gd name="textAreaLeft" fmla="*/ 81720 w 609840"/>
              <a:gd name="textAreaRight" fmla="*/ 528120 w 60984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7600a0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2T10:39:18Z</dcterms:created>
  <dc:creator>Scuola Media di Cannara</dc:creator>
  <dc:description/>
  <dc:language>en-US</dc:language>
  <cp:lastModifiedBy>CRIDEA</cp:lastModifiedBy>
  <dcterms:modified xsi:type="dcterms:W3CDTF">1999-07-26T08:20:40Z</dcterms:modified>
  <cp:revision>22</cp:revision>
  <dc:subject/>
  <dc:title>Nessun titolo diapositiva</dc:title>
</cp:coreProperties>
</file>